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8814-DCA5-4AEE-BA0A-89DA4438C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5BDC-C839-4E93-920F-E55A72786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6F10-13AC-46B2-A907-2C7E061C0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5C77-C432-421C-A2E6-79704D168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A4014-F4BB-40CE-B386-CD3125C6F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0AD22-1332-4108-AEA5-86C5066DF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682C8-C265-4E00-A31B-C53AB2BF3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6BB87-E534-44B6-8CC4-09EA1293A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3ECEB-EBCF-4D33-B289-52E79F969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EE3FA-72F9-4D85-A6B4-5088DD430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95683-0EE5-4793-83D0-1EB422382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5B46-78A4-47E2-8B65-E79ED66FA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72105-73B4-441D-B905-2F4CEA20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D5DD6-0F7B-45AA-877A-AF7451EA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B3E2D-503D-4F97-A68B-678B73FCE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76128-7DC9-469E-9178-B8F76FCD9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48939-780E-4BE5-AE9C-9F2FE285B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B403-44FF-4F62-B9D9-4D8797906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ADAE-EC94-43B6-8CDE-A06EBA530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32D9-A585-4AF4-8ACE-1258D6E47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B5D2-2A30-402D-9592-C3171003D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B2B6-9BBB-4DD6-AFC8-14118658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0D0E-FAEA-467F-8F27-17983961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5019-7F6C-4995-B1DE-48A9509C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66F5A-E35D-42C4-AA0B-1A6B8A89B3B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F4B60-25F8-43CD-BC95-9019783D416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gebra 2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ptember 13, 200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pter Five re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quaring binomials and the difference of two squar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quare a binomial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  square the first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 multiply the two terms together and multiply by tw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 square the last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d the product two binomials that differ only in sign: (a-b)(a+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 Square the first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 Square the second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 Connect the two with a min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Your assig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. 473 #1-2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ules for expon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Ru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*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m+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otient Ru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/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m-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re rules for expon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-Power R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b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otient-Power R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/b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/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wer Ru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Order of Operat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ember to following the order of operation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enthe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tr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sure to use parentheses when appropriate on the calculato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ypes of Polynomials and their degre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monomi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 ter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binom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ter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trinom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g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the highest ex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ending 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 the terms, starting with the highest exponent (pow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dding polynomial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using the vertical meth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+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+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x</a:t>
            </a:r>
            <a:r>
              <a:rPr b="0" lang="en-US" sz="3200" spc="-1" strike="noStrike" u="sng" baseline="30000">
                <a:solidFill>
                  <a:srgbClr val="000000"/>
                </a:solidFill>
                <a:uFillTx/>
                <a:latin typeface="Tahoma"/>
              </a:rPr>
              <a:t>2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+x-1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using parenthe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-2)+(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4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sure to combine like terms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ubtracting polynomials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vertical meth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+10x-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-            -5x+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parenthe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2x-2)-(3x-5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ember the rules about subtracting negatives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Finding the product of a monomial and a polynomial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distributive property to multiply each term in the polynomial by the monomi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(x-3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x-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Finding the product of two polynomials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distributive propert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FOIL (binomials onl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completing the squa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vertical metho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2T23:46:02Z</dcterms:created>
  <dc:creator>nuhs</dc:creator>
  <dc:description/>
  <dc:language>en-US</dc:language>
  <cp:lastModifiedBy>nuhs</cp:lastModifiedBy>
  <dcterms:modified xsi:type="dcterms:W3CDTF">2007-09-13T15:59:39Z</dcterms:modified>
  <cp:revision>4</cp:revision>
  <dc:subject/>
  <dc:title>Algebra 2a</dc:title>
</cp:coreProperties>
</file>